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9DD89-F384-45EC-BFF0-49C6447B6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 of Vertebr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with many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terotroph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thermic or ectother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 of Vertebr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with many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terotroph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thermic or ectother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back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m blooded (endother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the with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babies that are born al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fur or h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milk to feed their yo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back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m blooded (endother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the with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babies that are born al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fur or h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milk to feed their yo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 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mmals 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warm blooded (ectother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the with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fea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beak, two wings and two f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warm blooded (ectother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the with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fea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beak, two wings and two f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 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 are classified into three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ng birds           Flightless         Bird of Pre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 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 are classified into three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ng birds           Flightless         Bird of Pre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is Which?  Classify the Vertebr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is Which?  Classify the Vertebr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Vertebrat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ctive skin cov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ide or outside skele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that circulates  through blood vessels or lungs for brea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Vertebrat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ctive skin cov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ide or outside skele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that circulates  through blood vessels or lungs for brea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have legs or fins for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rain that processes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sense organs ( ears or tong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specialized organ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have legs or fins for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rain that processes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sense organs ( ears or tong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specialized organ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tebrates are Classified into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ve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ib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tebrates are Classified into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ve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ib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backb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d Blooded (ectother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water through g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lay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f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backb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d Blooded (ectother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water through g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lay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f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 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y fish =are fish with 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wless Fish=are fish without jaw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tilaginous Fish=are fish without bones, but have cartil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 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y fish =are fish with 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wless Fish=are fish without jaw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tilaginous Fish=are fish without bones, but have cartil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 Anat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sh Anat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ib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backb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cold bloo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reathe with gills in early life:breathe with lungs as ad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hru Metamorph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 jelly like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ib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backb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cold bloo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reathe with gills in early life:breathe with lungs as ad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hru Metamorph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 jelly like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backb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cold blooded (ectother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the with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have fangs that inject venom into pr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on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f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no 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backb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cold blooded (ectother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the with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have fangs that inject venom into pr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on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f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no 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0F62-0F01-4448-AFDA-5D183BDF7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8005-75CB-4E83-A779-67AC3438F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85CE-CEFE-4097-98F3-7CA8C909B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589B-D383-418E-9E01-D9B3FD1A4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22C69-A305-4D3E-B5C2-84AC4973A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98D20-8660-4846-9A4C-CD7A8D345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A46BD-760C-42AA-ACF8-64060BA53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A5C6E-C272-4764-8B10-24A1FBF77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256C5-5CE9-41DA-87B7-65CD6BB24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4188B-C281-49F1-B68E-102A1AD6F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D4969-C387-49C3-9BBE-36F10F86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0B31-FAA3-43DB-95FF-B1A3B3574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F6CE8-CD2C-4B24-A5AE-2CFF8A7F0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96429-BB67-4030-A4F5-AF3E7573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A0ABF-C1A2-47E3-8F5E-87D37377F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83F64-6D57-4433-BB88-0ED751E2C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B4768-FAEB-42D6-AB5E-E3C3A615C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37AC5-58ED-43FE-822E-D77BC2677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4AD2D-2DFB-4776-88F6-324C33951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14312-ABA1-492B-9315-35AD7B385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11957-5F01-4A39-A494-C6986DFAC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5DC42-F745-4417-8D34-4A3C8D809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5CAD-201A-4F43-B6E1-CDF1BB96F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D1B0C-EFF4-4F56-A8CB-95E61A0B5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D6580-C1AA-4229-8185-8CEA0769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5DF1F-4013-46F9-AA91-7B84B1CA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F450D-C4C9-4EB6-8AE1-503D723CB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286C5-41F2-4EF3-9D0A-C695BBCBF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22835-64CB-40E9-802B-93F211B86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201DF-6642-43A0-BDC0-F67DFFD73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1203F-2FFF-4622-A48E-0F54B7EFB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0A387-CE03-4811-BB73-75554488B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3B18A-9A56-4AC7-933E-FD86AF864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09DF-34D2-478A-90C3-DBC39BC4A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BC27B-3D0C-466A-9937-591342007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19881-5ECA-42D0-A8E3-BDD70C476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37415-0D34-4485-83A8-09A048841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F0E59-FA36-4BB5-A8DC-046D020A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ED3B9-E90D-4490-8C48-AB67BEA8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287EC-3E86-4CF2-A3E9-51E15AD8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87D46-B584-46A8-9D00-9D8C48CBE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02F65-3A25-4F39-ABE7-40EE87EF4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2F882-958E-4200-A001-4F7AC76F6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723B98-7655-4B6A-B05E-5FD66DD6D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348F-8A8A-4959-B81A-AC01A1B7C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78CB2B-B1AD-4E25-9045-954643AAA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AE5D77-34B0-4DA9-B85D-419325845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2AA9F1-DBB4-49CD-BA03-7A3078A53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1AD7F5-9737-4389-887A-F0C0022F9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D450B-7406-4ED9-A0E9-966167FE1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A4E0EA-F9B4-4A15-AF2B-B3D14687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F67F45-096A-4A69-AB9D-9B0305DA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4E302-5A12-4FD5-BCC8-A8C5AA78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D8F98-8806-4B4C-AB6E-23C0220B0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FCEF5D-3B67-46B9-B199-55467F287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60D1-4843-48C3-836A-239BD49BD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63DF0C-54BD-4ACE-B579-3A142FD84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9BE8-8652-461C-9DF2-EAC0DBF0A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1F08-6904-45CD-9039-1AB160BE2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706A-183F-43C4-969E-F0B70B3BA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740A5-58DF-437B-B5D4-41526341C889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9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E77AA-B73C-4C72-8A56-0807D6FDEF72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ight Triangle 9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FA83D-DC3F-492B-88D8-65FD7A39EE49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ight Triangle 9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3434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2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34342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0A713-C2FC-4FE6-8CA2-AC20C464FA50}" type="slidenum">
              <a:rPr b="0" lang="en-US" sz="1600" spc="-1" strike="noStrike">
                <a:solidFill>
                  <a:srgbClr val="434342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CB8FA-2940-419A-A6D4-989E72DD74C2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lasthope.org/Twins1.JPG&amp;imgrefurl=http://www.lasthope.org/&amp;usg=__3ZE7DJjsuvzM1Qgly9ats1yIXic=&amp;h=480&amp;w=530&amp;sz=67&amp;hl=en&amp;start=8&amp;tbnid=BGWlEMCWGNB4MM:&amp;tbnh=120&amp;tbnw=132&amp;prev=/images%3Fq%3Danimals%26gbv%3D2%26hl%3Den%26safe%3Dactive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com/imgres?imgurl=http://animals.nationalgeographic.com/staticfiles/NGS/Shared/StaticFiles/animals/images/primary/black-spider-monkey.jpg&amp;imgrefurl=http://animals.nationalgeographic.com/animals/mammals/spider-monkey.html&amp;usg=__n6Yv8Za-hjIpAuxwh8lPCkdHcOY=&amp;h=324&amp;w=470&amp;sz=29&amp;hl=en&amp;start=3&amp;tbnid=b61MH5BWNmOEhM:&amp;tbnh=89&amp;tbnw=129&amp;prev=/images%3Fq%3DMonkey%26gbv%3D2%26hl%3Den%26safe%3Dactive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images.google.com/imgres?imgurl=http://store.got3d.com/images/animated-3d-people-models-casual-revolution-series.jpg&amp;imgrefurl=http://store.got3d.com/products/animated-3d-models-people-casual-rs1/index.html&amp;usg=__9hSGmND_h2AP7XoIu-NjPgY-JMQ=&amp;h=314&amp;w=400&amp;sz=66&amp;hl=en&amp;start=5&amp;tbnid=P8Lnu9FI5B7sLM:&amp;tbnh=97&amp;tbnw=124&amp;prev=/images%3Fq%3Danimated%2Bpeople%26gbv%3D2%26hl%3Den%26safe%3Dactive" TargetMode="Externa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whozoo.org/students/raymur/eagle52.jp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rayrolston.com/prints/dec07/pink_flamingos.jpg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images.google.com/imgres?imgurl=http://images.digitalmedianet.com/2007/Week_14/xjzmgakv/story/sb7.jpg&amp;imgrefurl=http://photoshop.digitalmedianet.com/articles/viewarticle.jsp%3Fid%3D124958-1&amp;usg=__pYUVBOi2I_3OHlodZq87HdqsTU0=&amp;h=405&amp;w=543&amp;sz=160&amp;hl=en&amp;start=48&amp;tbnid=AlPJ7So6Zi-GqM:&amp;tbnh=98&amp;tbnw=132&amp;prev=/images%3Fq%3Dsong%2Bbirds%26start%3D40%26ndsp%3D20%26hl%3Den%26safe%3Dactive%26sa%3DN" TargetMode="External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volunteersforwildlife.org/i/VW-snakes11.jpg&amp;imgrefurl=http://www.volunteersforwildlife.org/about/permanent_animals/&amp;usg=__l5fXPnfZG_7v15Agxl4DwHsBVHc=&amp;h=1818&amp;w=2728&amp;sz=349&amp;hl=en&amp;start=5&amp;tbnid=5TEf0MBlTjt1vM:&amp;tbnh=100&amp;tbnw=150&amp;prev=/images%3Fq%3Dsnakes%26gbv%3D2%26hl%3Den%26safe%3Dactive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s.google.com/imgres?imgurl=http://www.science.smith.edu/stopoverbirds/birdpixs/images/American%2520Goldfinch.jpg&amp;imgrefurl=http://www.science.smith.edu/stopoverbirds/birdpixs/pages/American%2520Goldfinch.html&amp;usg=__ERdw-t1sKjpPmWClEupnI4OZ_iA=&amp;h=405&amp;w=600&amp;sz=19&amp;hl=en&amp;start=5&amp;tbnid=HJMoe5o8aF_HiM:&amp;tbnh=91&amp;tbnw=135&amp;prev=/images%3Fq%3DGoldfinch%26gbv%3D2%26hl%3Den%26safe%3Dactive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images.google.com/imgres?imgurl=http://pond.dnr.cornell.edu/nyfish/centrarchidae/smallmouth_bass.jpg&amp;imgrefurl=http://pond.dnr.cornell.edu/nyfish/centrarchidae/smallmouth_bass.html&amp;usg=__m3AUHxEVwIbI_elfRBN2STXC6yA=&amp;h=455&amp;w=1020&amp;sz=110&amp;hl=en&amp;start=1&amp;tbnid=svY_lwOgNuK5IM:&amp;tbnh=67&amp;tbnw=150&amp;prev=/images%3Fq%3DBass%26gbv%3D2%26hl%3Den%26safe%3Dactive" TargetMode="External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DEFINITION OF VERTEBRATES 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organisms with many cell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eterotrophic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endothermic or ectothermic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4" name="Нижний колонтитул 3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2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MAMMAL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ave backbone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Warm blooded (endothermic)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Breathe with lung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ave babies that are born aliv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ave fur or hair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Produce milk to feed their young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2" name="Нижний колонтитул 3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0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768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8" dur="768" fill="hold"/>
                                        <p:tgtEl>
                                          <p:spTgt spid="2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0" dur="768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2" dur="768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MAMMALS (CONTINUED)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54" name="Picture 7" descr="Twins1">
            <a:hlinkClick r:id="rId1"/>
          </p:cNvPr>
          <p:cNvPicPr/>
          <p:nvPr/>
        </p:nvPicPr>
        <p:blipFill>
          <a:blip r:embed="rId2"/>
          <a:stretch/>
        </p:blipFill>
        <p:spPr>
          <a:xfrm rot="20115600">
            <a:off x="906480" y="1790280"/>
            <a:ext cx="1523880" cy="13860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3" descr="black-spider-monkey">
            <a:hlinkClick r:id="rId3"/>
          </p:cNvPr>
          <p:cNvPicPr/>
          <p:nvPr/>
        </p:nvPicPr>
        <p:blipFill>
          <a:blip r:embed="rId4"/>
          <a:stretch/>
        </p:blipFill>
        <p:spPr>
          <a:xfrm rot="894000">
            <a:off x="6629040" y="2209680"/>
            <a:ext cx="1981080" cy="13687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5" descr="animated-3d-people-models-casual-revolution-series">
            <a:hlinkClick r:id="rId5"/>
          </p:cNvPr>
          <p:cNvPicPr/>
          <p:nvPr/>
        </p:nvPicPr>
        <p:blipFill>
          <a:blip r:embed="rId6"/>
          <a:stretch/>
        </p:blipFill>
        <p:spPr>
          <a:xfrm rot="20985600">
            <a:off x="3412800" y="1901880"/>
            <a:ext cx="2209680" cy="1728720"/>
          </a:xfrm>
          <a:prstGeom prst="rect">
            <a:avLst/>
          </a:prstGeom>
          <a:ln w="0">
            <a:noFill/>
          </a:ln>
        </p:spPr>
      </p:pic>
      <p:sp>
        <p:nvSpPr>
          <p:cNvPr id="257" name="Нижний колонтитул 5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0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411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BIRD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Are warm blooded (ectothermic)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Breathe with lung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Lay egg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ave feather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ave a beak, two wings and two fee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60" name="Picture 4" descr="MPj04387650000[1]"/>
          <p:cNvPicPr/>
          <p:nvPr/>
        </p:nvPicPr>
        <p:blipFill>
          <a:blip r:embed="rId1"/>
          <a:stretch/>
        </p:blipFill>
        <p:spPr>
          <a:xfrm>
            <a:off x="5867280" y="2819520"/>
            <a:ext cx="3081600" cy="2290680"/>
          </a:xfrm>
          <a:prstGeom prst="rect">
            <a:avLst/>
          </a:prstGeom>
          <a:ln w="0">
            <a:noFill/>
          </a:ln>
        </p:spPr>
      </p:pic>
      <p:sp>
        <p:nvSpPr>
          <p:cNvPr id="261" name="Нижний колонтитул 4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BIRD CLASSIFICATION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Birds are classified into three group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ong birds           Flightless         Bird of Prey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64" name="Picture 5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24480" y="2657520"/>
            <a:ext cx="2362320" cy="20541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7" descr="See full 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86200" y="2590920"/>
            <a:ext cx="1598760" cy="22860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9" descr="sb7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7200" y="2744640"/>
            <a:ext cx="2666880" cy="1979640"/>
          </a:xfrm>
          <a:prstGeom prst="rect">
            <a:avLst/>
          </a:prstGeom>
          <a:ln w="0">
            <a:noFill/>
          </a:ln>
        </p:spPr>
      </p:pic>
      <p:sp>
        <p:nvSpPr>
          <p:cNvPr id="267" name="Нижний колонтитул 6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0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ASSIFICATION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Which is Which?  Classify the Vertebrates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70" name="Picture 5" descr="VW-snakes11">
            <a:hlinkClick r:id="rId1"/>
          </p:cNvPr>
          <p:cNvPicPr/>
          <p:nvPr/>
        </p:nvPicPr>
        <p:blipFill>
          <a:blip r:embed="rId2"/>
          <a:stretch/>
        </p:blipFill>
        <p:spPr>
          <a:xfrm rot="475200">
            <a:off x="610920" y="1572840"/>
            <a:ext cx="1904760" cy="12700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9" descr="American%2520Goldfinch">
            <a:hlinkClick r:id="rId3"/>
          </p:cNvPr>
          <p:cNvPicPr/>
          <p:nvPr/>
        </p:nvPicPr>
        <p:blipFill>
          <a:blip r:embed="rId4"/>
          <a:stretch/>
        </p:blipFill>
        <p:spPr>
          <a:xfrm rot="20929200">
            <a:off x="5037120" y="1571400"/>
            <a:ext cx="1600200" cy="10778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1" descr="smallmouth_bass">
            <a:hlinkClick r:id="rId5"/>
          </p:cNvPr>
          <p:cNvPicPr/>
          <p:nvPr/>
        </p:nvPicPr>
        <p:blipFill>
          <a:blip r:embed="rId6"/>
          <a:stretch/>
        </p:blipFill>
        <p:spPr>
          <a:xfrm rot="514200">
            <a:off x="6167160" y="2925360"/>
            <a:ext cx="1828800" cy="8175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5" descr="Eastern_Mud_Salamander_Pseudotriton_mlr"/>
          <p:cNvPicPr/>
          <p:nvPr/>
        </p:nvPicPr>
        <p:blipFill>
          <a:blip r:embed="rId7"/>
          <a:stretch/>
        </p:blipFill>
        <p:spPr>
          <a:xfrm rot="21196200">
            <a:off x="3438360" y="3254400"/>
            <a:ext cx="1676520" cy="1243080"/>
          </a:xfrm>
          <a:prstGeom prst="rect">
            <a:avLst/>
          </a:prstGeom>
          <a:ln w="0">
            <a:noFill/>
          </a:ln>
        </p:spPr>
      </p:pic>
      <p:sp>
        <p:nvSpPr>
          <p:cNvPr id="274" name="Нижний колонтитул 7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0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CHARACTERISTICS OF VERTEBRATE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Backbone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Protective skin covering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Inside or outside skeleton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Muscle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Blood that circulates  through blood vessels or lungs for breathing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7" name="Нижний колонтитул 3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Most have legs or fins for movemen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ave a nervous system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A brain that processes information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ave sense organs ( ears or tongue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ave specialized organ system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9" name="Text Box 8"/>
          <p:cNvSpPr/>
          <p:nvPr/>
        </p:nvSpPr>
        <p:spPr>
          <a:xfrm>
            <a:off x="12193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Нижний колонтитул 3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VERTEBRATES ARE CLASSIFIED INTO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FIVE GROUPS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sh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Amphibian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Reptile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Mammal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Bird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3" name="Нижний колонтитул 3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FISH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ave a backbon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old Blooded (ectothermic)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Obtain water through gill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Most lay egg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ave fin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Live in water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Нижний колонтитул 3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FISH CLASSIFICATION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Bony fish =are fish with bone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Jawless Fish=are fish without jaws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artilaginous Fish=are fish without bones, but have cartilag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9" name="Нижний колонтитул 3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FISH ANATOMY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41" name="Picture 4" descr="Fish-Anatomy"/>
          <p:cNvPicPr/>
          <p:nvPr/>
        </p:nvPicPr>
        <p:blipFill>
          <a:blip r:embed="rId1"/>
          <a:stretch/>
        </p:blipFill>
        <p:spPr>
          <a:xfrm>
            <a:off x="1851120" y="1100160"/>
            <a:ext cx="5464080" cy="3579840"/>
          </a:xfrm>
          <a:prstGeom prst="rect">
            <a:avLst/>
          </a:prstGeom>
          <a:ln w="0">
            <a:noFill/>
          </a:ln>
        </p:spPr>
      </p:pic>
      <p:sp>
        <p:nvSpPr>
          <p:cNvPr id="242" name="Нижний колонтитул 3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8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AMPHIBIAN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ave a backbon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Are cold blooded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an breathe with gills in early life:breathe with lungs as adult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Go thru Metamorphosi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Lay jelly like egg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5" name="Нижний колонтитул 3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8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REPTILE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Franklin Gothic Book"/>
              </a:rPr>
              <a:t>Have a backbone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Franklin Gothic Book"/>
              </a:rPr>
              <a:t>Are cold blooded (ectothermic)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Franklin Gothic Book"/>
              </a:rPr>
              <a:t>Breathe with lungs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Franklin Gothic Book"/>
              </a:rPr>
              <a:t>Lay eggs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Franklin Gothic Book"/>
              </a:rPr>
              <a:t>Some have fangs that inject venom into prey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Franklin Gothic Book"/>
              </a:rPr>
              <a:t>Have one lung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Franklin Gothic Book"/>
              </a:rPr>
              <a:t>No feet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Franklin Gothic Book"/>
              </a:rPr>
              <a:t>Have no ears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48" name="Picture 4" descr="MPj03142820000[1]"/>
          <p:cNvPicPr/>
          <p:nvPr/>
        </p:nvPicPr>
        <p:blipFill>
          <a:blip r:embed="rId1"/>
          <a:stretch/>
        </p:blipFill>
        <p:spPr>
          <a:xfrm>
            <a:off x="5410080" y="4971960"/>
            <a:ext cx="3733920" cy="1886040"/>
          </a:xfrm>
          <a:prstGeom prst="rect">
            <a:avLst/>
          </a:prstGeom>
          <a:ln w="0">
            <a:noFill/>
          </a:ln>
        </p:spPr>
      </p:pic>
      <p:sp>
        <p:nvSpPr>
          <p:cNvPr id="249" name="Нижний колонтитул 4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8:47:58Z</dcterms:created>
  <dc:creator>WEHS</dc:creator>
  <dc:description/>
  <dc:language>en-US</dc:language>
  <cp:lastModifiedBy>LEGION</cp:lastModifiedBy>
  <dcterms:modified xsi:type="dcterms:W3CDTF">2018-03-12T07:56:07Z</dcterms:modified>
  <cp:revision>12</cp:revision>
  <dc:subject/>
  <dc:title>Invertebrates and vertebrates</dc:title>
</cp:coreProperties>
</file>